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B8A-C0D9-47F1-B7C9-4C94D0EB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4F0-24DD-425A-BEEF-F6E54B7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1B9-9C6B-4B0B-B67D-778C007A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126-E3A0-422C-8D16-6971C9D6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502C-C90C-4A15-A4E9-3F740065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2203-6697-4214-B31F-CACA84DB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7F35-1E7A-458F-AFDA-026B764F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F4E1-C6F7-4116-8F43-C1397656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619F-ECEC-49CC-854F-F7D25AE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6163-574B-4B50-B430-D74E1E9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F13-E1C2-4813-9E9B-3F29A05D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448-81FF-44CC-87EC-A56D92E0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C24A-6728-4308-AA9A-F714AA80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BC71-757C-4261-90D9-D885E1B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763E-AF92-4C0D-9A13-D2DDB1F2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63E2-A742-4E01-BA7F-5A978FE9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D981-5DBB-4B8A-9B75-1CA83578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30C-AED2-44B0-B2D1-6BEC749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9E2-949B-4E64-9C1A-E4612801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337-8555-465B-9991-EC4B8A68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174-33C9-401D-BC84-EEF18E5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9A0-6202-4FF3-B6B4-035DCC49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A5F-66AD-4EEF-BD98-1DDBE47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AB6-F702-45C9-B523-E23E85B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DD67-C392-472F-9053-7CABF181E9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BB89-E881-4C66-9C91-193D982255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0200" y="1357200"/>
            <a:ext cx="4143600" cy="41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ck it out, guess no one will get much sleep in August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s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d Planet is about to be spectacular!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onth and next, Earth is catching up with Mars in an  encounter t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ll culminate in the closest  approach between the two planets in recorded  histor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next time Mars may come this close is in 2287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ue to the way Jupiter's gravity tugs on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Mars and perturbs its orbit, astronomers can only be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ertain that Mars has not come this close to Earth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in the Last 5,000 years, but it may be as long as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60,000 years before it happens agai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e encounter will culminate on August 27th when</a:t>
            </a:r>
            <a:br>
              <a:rPr sz="2400"/>
            </a:b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Mars comes to within 34,649,589 miles of Earth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(next to the moon) the brightest object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ight sky. It will attain a magnitude of -2.9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ill appear 25.11 arc seconds wi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a modest 75-power magn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ars will look as large as the full moon to the naked eye.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49604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8776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rs will be easy to spot. At th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ginning of August it will rise in the east at 10p.m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and reach its azimuth at about 3 a.m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By the end of August when the two planets ar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closest, Mars will rise at nightfall and reach its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highest point in the sky at 12:30a.m. That's prett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nvenient to see something that no human being has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seen in recorded history. So, mark your calendar at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the beginning of August to see Mars grow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progressively brighter and brighter throughout th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month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Share this with your children and grandchildren.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 ONE ALIVE TODAY WILL EVER SEE THIS AGAIN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  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7:34:00Z</dcterms:created>
  <dc:creator> </dc:creator>
  <dc:description> </dc:description>
  <cp:keywords/>
  <dc:language>en-US</dc:language>
  <cp:lastModifiedBy/>
  <dcterms:modified xsi:type="dcterms:W3CDTF">2009-04-28T17:34:00Z</dcterms:modified>
  <cp:revision>1</cp:revision>
  <dc:subject> </dc:subject>
  <dc:title> </dc:title>
</cp:coreProperties>
</file>