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0FF-1CAC-4C79-A355-D1331CF9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5CB-655D-4B5A-9155-D71FB32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8F6-42D1-423A-86B8-D8DC4009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E80-5971-4E67-B75A-977EEDF0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3EE-D72F-430F-8DF8-F4340B6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AAB-C6DC-4A2F-B327-324DEBD3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C76-44F5-4231-93B1-39A70F4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D6C-F1C6-4583-A64F-620C3354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6E2-C094-4948-BA9B-7CF61AD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A33-C625-4ABB-974F-D99A773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06D-AE67-4E0A-A776-5FD79EC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7F0-CD61-40D0-A7BE-697EADF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BEF-AC38-4523-B7AA-407D47660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 Title 1.jpg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8 Investment Bank A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9 Investment Bank 2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0 Investment Bank 3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 Investment Bank 4.jpg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2 Investment Bank 5.jpg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3 Investment Bank 6.jpg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4 Investment Bank 7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5 Investment Bank 8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6 Investment Bank 9.jpg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7 Investment Bank 10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 Title 2.jpg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8 Investment Bank 11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9 Investment Bank 12.jpg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0 Investment Bank 13.jpg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22 Investment Bank 15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2a Investment Bank 15.jpg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22b Investment Bank 15.jpg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22c Investment Bank 15.jpg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22d Title.jpg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22e Accounting.jpg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22f Accounting.jpg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 Mortgage Broker 1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24 Title 5.jpg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25 Phone Call 1.jpg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6 Phone Call 2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27 Phone Call 3.jpg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8 Phone Call 4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9 Phone Call 5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0 Phone Call 6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31 Phone Call 7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32 Phone Call 8.jpg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33 Phone Call 9.jpg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4 Mortgage Broker 2.jpg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34 Phone Call 10.jpg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35 Phone Call 11.jpg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36 Phone Call 12.jpg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37 Phone Call 13.jpg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38 Phone Call 14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39 Title 6.jpg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 Mortgage Broker 4.jpg"/>
          <p:cNvPicPr/>
          <p:nvPr/>
        </p:nvPicPr>
        <p:blipFill>
          <a:blip r:embed="rId1"/>
          <a:stretch/>
        </p:blipFill>
        <p:spPr>
          <a:xfrm>
            <a:off x="0" y="29520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5a Title 3.jpg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6 Bank 1.jpg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6a Title4.jpg"/>
          <p:cNvPicPr/>
          <p:nvPr/>
        </p:nvPicPr>
        <p:blipFill>
          <a:blip r:embed="rId1"/>
          <a:stretch/>
        </p:blipFill>
        <p:spPr>
          <a:xfrm>
            <a:off x="0" y="888840"/>
            <a:ext cx="914400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7 Investment Bank.jpg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36:21Z</dcterms:created>
  <dc:creator>E</dc:creator>
  <dc:description/>
  <dc:language>en-US</dc:language>
  <cp:lastModifiedBy>E</cp:lastModifiedBy>
  <dcterms:modified xsi:type="dcterms:W3CDTF">2008-02-07T21:32:56Z</dcterms:modified>
  <cp:revision>19</cp:revision>
  <dc:subject/>
  <dc:title>Slide 1</dc:title>
</cp:coreProperties>
</file>